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34FF-DD60-4C91-8227-828C866FA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DA4C-3B01-49E9-9AFE-6EC2D5CA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5315-4170-49D4-AF62-D1B44D11F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D7CD-C0CF-4B00-878E-A0F2AF80B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13DF-0A72-4F34-AF0E-9176ECBC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837A-BD1C-4227-89CB-9D89D86F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80E9-9A66-4C44-A75C-60B28850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7D3E-6690-47E3-9BDE-B0AA5B8F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943D-610C-4DAB-A728-C43CAEC0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A649-AAFF-4D32-A49D-B5A19E4B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A29B-7FD4-4054-8CD3-070B54A3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7EAD-F75C-4D54-A90B-D69DA4B1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C30C-10A8-423D-9478-14EC6641970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iranologie.com/history/Achaemenid/chapter%20I.html" TargetMode="External"/><Relationship Id="rId2" Type="http://schemas.openxmlformats.org/officeDocument/2006/relationships/hyperlink" Target="http://en.wikipedia.org/wiki/Zoroastrianism" TargetMode="External"/><Relationship Id="rId3" Type="http://schemas.openxmlformats.org/officeDocument/2006/relationships/hyperlink" Target="http://www.hsc.csu.edu.au/ancient_history/societies/near_east/persian_soc/persiansociety.html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32000" y="530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By Alex and Z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71640" y="1773360"/>
            <a:ext cx="7062840" cy="264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Palatino Linotype"/>
              </a:rPr>
              <a:t>The Persian Empire</a:t>
            </a:r>
            <a:endParaRPr b="1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Palatino Linotype"/>
              <a:ea typeface="Palatino Linotype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5373720"/>
            <a:ext cx="1908000" cy="1484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4000" y="3573360"/>
            <a:ext cx="1368360" cy="1440000"/>
          </a:xfrm>
          <a:prstGeom prst="wedgeEllipseCallout">
            <a:avLst>
              <a:gd name="adj1" fmla="val 32250"/>
              <a:gd name="adj2" fmla="val 6984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y there! I’m Clark the camel! Lets learn about the Persian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5445000"/>
            <a:ext cx="1429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544500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youtube.com/watch?v=f6HkW-kGZQk&amp;feature=re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2585880"/>
            <a:ext cx="914400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83552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of the greatest architectural feats of the Persian Empire include when Cyrus II built the first Persian capital at Pasargadae, and then later when Darius I moved the capital to Persepol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rchitecture of the Persian empire was a conglomerate of the nations that Persia conqu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laces were decorated with stone relie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The Great Persian Empire &quot; Perspolis &quot;"/>
          <p:cNvPicPr/>
          <p:nvPr/>
        </p:nvPicPr>
        <p:blipFill>
          <a:blip r:embed="rId1"/>
          <a:stretch/>
        </p:blipFill>
        <p:spPr>
          <a:xfrm>
            <a:off x="5335560" y="1628640"/>
            <a:ext cx="3808440" cy="2538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516720" y="4221000"/>
            <a:ext cx="2406600" cy="2427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68360" y="5229360"/>
            <a:ext cx="1368720" cy="1439640"/>
          </a:xfrm>
          <a:prstGeom prst="wedgeEllipseCallout">
            <a:avLst>
              <a:gd name="adj1" fmla="val -81092"/>
              <a:gd name="adj2" fmla="val -1758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cient ruin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908000" cy="1484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476360" y="5445000"/>
            <a:ext cx="1429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47640" y="544500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558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giously, the Persians practiced Zoroastrianism, a monotheistic reli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Zoroastrianism, there was one creator: Ahura Maz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focuses were honesty and free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the fifth century BCE, Zoroastrianism had spread throughout the entire em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odotus wrote (during Atraxerxes I and Darius II) that the Perses “have no images of the gods, no temples nor altars, and consider the use of them a sign of folly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also wrote about the Persians worshiping the sun and moon, earth, fire, water, and the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562720" y="32767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68360" y="5229360"/>
            <a:ext cx="1368720" cy="1439640"/>
          </a:xfrm>
          <a:prstGeom prst="wedgeEllipseCallout">
            <a:avLst>
              <a:gd name="adj1" fmla="val -81092"/>
              <a:gd name="adj2" fmla="val -1758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er there is a stone relief of Ahura Mazd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5373720"/>
            <a:ext cx="1908000" cy="1484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476360" y="5445000"/>
            <a:ext cx="1429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47640" y="544500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0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3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6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9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5" dur="2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ranologie.com/history/Achaemenid/chapter%20I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wikipedia.org/wiki/Zoroastri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hsc.csu.edu.au/ancient_history/societies/near_east/persian_soc/persiansociety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historyworld.net/wrldhis/PlainTextHistories.asp?historyd=aa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angelfire.com/empire2/unkemptgoose/Persian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40000" y="404640"/>
            <a:ext cx="1368360" cy="1440000"/>
          </a:xfrm>
          <a:prstGeom prst="wedgeEllipseCallout">
            <a:avLst>
              <a:gd name="adj1" fmla="val -77495"/>
              <a:gd name="adj2" fmla="val -4459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odbye folk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8000" cy="1484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476360" y="71280"/>
            <a:ext cx="1429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7640" y="11592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The Persians were a powerful nation in ancient times. They reigned from about 550-330 BCE, succeeding the Median empire. Together the Median and Persian empires were known as Medo-Persian empire. The Persian rule ended with Darius III when the Macedonians, led by Alexander the Great, invaded Per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340000" y="0"/>
            <a:ext cx="4464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Palatino Linotype"/>
              </a:rPr>
              <a:t>Overview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Palatino Linotype"/>
              <a:ea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rus II, the great- 550-530 B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byses II- 529-522 B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erdis- 522 B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ius I, the great- 521-486 B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erxes I, the great- 485-465 B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axerxes I Longimanus- 465-424 B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erxes II- 424 B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gdianus- 424-423 B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ius II Nothus- 423-405 B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axerxes II Mnemon- 405-359 B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axerxes III Ochus- 358-338 B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axerxes IV Arses- 338-336 B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ius III Codomannus-  336-330 B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4076640"/>
            <a:ext cx="1368720" cy="1440000"/>
          </a:xfrm>
          <a:prstGeom prst="wedgeEllipseCallout">
            <a:avLst>
              <a:gd name="adj1" fmla="val 42921"/>
              <a:gd name="adj2" fmla="val 5496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w, those guys sound powerfu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201080" y="5346720"/>
            <a:ext cx="1942920" cy="1511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524720" y="5445000"/>
            <a:ext cx="1429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24720" y="544500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195640" y="189000"/>
            <a:ext cx="4176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Palatino Linotype"/>
              </a:rPr>
              <a:t>Location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Palatino Linotype"/>
              <a:ea typeface="Palatino Linotype"/>
            </a:endParaRPr>
          </a:p>
        </p:txBody>
      </p:sp>
      <p:sp>
        <p:nvSpPr>
          <p:cNvPr id="56" name=""/>
          <p:cNvSpPr/>
          <p:nvPr/>
        </p:nvSpPr>
        <p:spPr>
          <a:xfrm>
            <a:off x="1187280" y="1844640"/>
            <a:ext cx="6769440" cy="17514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Located in what is now the Middle E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It included what is now Pakistan, Afghanistan, parts of central Asia, and Asia mi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At it’s peak it also included Egypt and parts of the Black Sea coastal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3573360"/>
            <a:ext cx="1368360" cy="1440000"/>
          </a:xfrm>
          <a:prstGeom prst="wedgeEllipseCallout">
            <a:avLst>
              <a:gd name="adj1" fmla="val 32250"/>
              <a:gd name="adj2" fmla="val 6984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w! The Persians sure knew how to expan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68360" y="3645000"/>
            <a:ext cx="5328000" cy="3068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5373720"/>
            <a:ext cx="1908000" cy="1484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76360" y="5445000"/>
            <a:ext cx="1429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47640" y="544500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The Persian Empire was governed by a monar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The Empire was divided up into 23 satrap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The governors of these satrapies were known as satra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The satrapies were linked by a 25 000 kilometer high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Generals were in charge of military recruitment and ensuring order while the secretary of state kept official rec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The capital of Persia was first at Pasargadae then in 518 BCE moved to Persepol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Good infrastructure promoted tr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68360" y="189000"/>
            <a:ext cx="4608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Palatino Linotype"/>
              </a:rPr>
              <a:t>Political Structure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Palatino Linotype"/>
              <a:ea typeface="Palatino Linotype"/>
            </a:endParaRPr>
          </a:p>
        </p:txBody>
      </p:sp>
      <p:sp>
        <p:nvSpPr>
          <p:cNvPr id="64" name=""/>
          <p:cNvSpPr/>
          <p:nvPr/>
        </p:nvSpPr>
        <p:spPr>
          <a:xfrm>
            <a:off x="2268360" y="4724280"/>
            <a:ext cx="1368720" cy="1440000"/>
          </a:xfrm>
          <a:prstGeom prst="wedgeEllipseCallout">
            <a:avLst>
              <a:gd name="adj1" fmla="val -72736"/>
              <a:gd name="adj2" fmla="val 1063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y nice beard Cyru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5373720"/>
            <a:ext cx="1908000" cy="1484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76360" y="5445000"/>
            <a:ext cx="1429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47640" y="544500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291360" y="3879720"/>
            <a:ext cx="238428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first, Persian economy was based on herding due to poor so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as until Persia acquired the fertile lands of Mesopotamia and the grasslands of Anatol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ersians had access to metal rich depos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e routes were numer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ius instituted Many economic policies: systemized taxation, standardized weights and measures, standardized monetary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aspects of the Persian economy include royal trading ships, a banking system and the promotion of international t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268360" y="189000"/>
            <a:ext cx="4608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7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Palatino Linotype"/>
              </a:rPr>
              <a:t>Economic Structure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Palatino Linotype"/>
              <a:ea typeface="Palatino Linotype"/>
            </a:endParaRPr>
          </a:p>
        </p:txBody>
      </p:sp>
      <p:sp>
        <p:nvSpPr>
          <p:cNvPr id="71" name=""/>
          <p:cNvSpPr/>
          <p:nvPr/>
        </p:nvSpPr>
        <p:spPr>
          <a:xfrm>
            <a:off x="1979640" y="4221000"/>
            <a:ext cx="1440000" cy="1440000"/>
          </a:xfrm>
          <a:prstGeom prst="wedgeEllipseCallout">
            <a:avLst>
              <a:gd name="adj1" fmla="val -46912"/>
              <a:gd name="adj2" fmla="val 503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er there is an Achaemenid co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5373720"/>
            <a:ext cx="1908000" cy="1484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476360" y="5445000"/>
            <a:ext cx="1429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47640" y="544500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File:Achaemenid coin daric 420BC front.jpg"/>
          <p:cNvPicPr/>
          <p:nvPr/>
        </p:nvPicPr>
        <p:blipFill>
          <a:blip r:embed="rId2"/>
          <a:stretch/>
        </p:blipFill>
        <p:spPr>
          <a:xfrm>
            <a:off x="6102360" y="4221000"/>
            <a:ext cx="257328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ersian society, the family was the basi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ather ruled the family absolu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ren were desired to be he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ygamy was encouraged as s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families formed a clan and several cl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classes were split into upper and lower class in order to avoid the untouchable class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were many sub-classes inside each of the two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ders, rulers and religious figures belonged to the upper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wer class included clergy, artisans, and herds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268360" y="189000"/>
            <a:ext cx="4608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7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Palatino Linotype"/>
              </a:rPr>
              <a:t>Social Structure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Palatino Linotype"/>
              <a:ea typeface="Palatino Linotype"/>
            </a:endParaRPr>
          </a:p>
        </p:txBody>
      </p:sp>
      <p:sp>
        <p:nvSpPr>
          <p:cNvPr id="78" name=""/>
          <p:cNvSpPr/>
          <p:nvPr/>
        </p:nvSpPr>
        <p:spPr>
          <a:xfrm>
            <a:off x="4211640" y="4862520"/>
            <a:ext cx="48988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ian society was male domin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ygamy was a common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usband was generally the ruler and the wife and children were treated like sl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68360" y="5229360"/>
            <a:ext cx="1368720" cy="1439640"/>
          </a:xfrm>
          <a:prstGeom prst="wedgeEllipseCallout">
            <a:avLst>
              <a:gd name="adj1" fmla="val -81092"/>
              <a:gd name="adj2" fmla="val -1758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bet it would be cool to be a no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5373720"/>
            <a:ext cx="1908000" cy="1484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476360" y="5445000"/>
            <a:ext cx="1429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47640" y="544500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ian art is an accumulation of many other cultures, having been conquered when the Persians inva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ian artisans were most known for their stone relief carvings, metalwork, carpets and cylinder se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059280" y="0"/>
            <a:ext cx="2879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7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Palatino Linotype"/>
              </a:rPr>
              <a:t>Art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Palatino Linotype"/>
              <a:ea typeface="Palatino Linotype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516720" y="2349360"/>
            <a:ext cx="2281320" cy="244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516720" y="4811760"/>
            <a:ext cx="2468520" cy="1962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516720" y="260280"/>
            <a:ext cx="1917720" cy="2094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132000" y="4076640"/>
            <a:ext cx="3384720" cy="2622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324000" y="4919760"/>
            <a:ext cx="2808000" cy="18939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5172120" y="1719360"/>
            <a:ext cx="1344600" cy="2357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704880" y="3633840"/>
            <a:ext cx="2427120" cy="13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8000"/>
                            </p:stCondLst>
                            <p:childTnLst>
                              <p:par>
                                <p:cTn id="29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855440"/>
            <a:ext cx="8229600" cy="29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ersian army consisted of conscripted troops from many nations such as Egyptians, Assyrians, Scythians, Bactrians and Ethiop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antry used spears, Archers used what is known as a recurved bow, Cavalry and missile troops made up the bulk of the ar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ersians relied on speed and agility during bat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mor was not common, normally worn by wealthy soldiers and the immor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elds were common and relied up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ariety of weapons were used, including the: thrusting spear, palta (spear), akinakes and xiphos (both swords), kopis and akinaka (dagger like weapons), bows and a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195640" y="142920"/>
            <a:ext cx="453708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7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Palatino Linotype"/>
              </a:rPr>
              <a:t>Weaponry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Palatino Linotype"/>
              <a:ea typeface="Palatino Linotype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695920" y="5429160"/>
            <a:ext cx="3448080" cy="1428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743360" y="4397400"/>
            <a:ext cx="4400640" cy="1047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059360" y="5243400"/>
            <a:ext cx="1665000" cy="1641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268360" y="5229360"/>
            <a:ext cx="1368720" cy="1439640"/>
          </a:xfrm>
          <a:prstGeom prst="wedgeEllipseCallout">
            <a:avLst>
              <a:gd name="adj1" fmla="val -81092"/>
              <a:gd name="adj2" fmla="val -1758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re wouldn’t want to fight these guy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0" y="5373720"/>
            <a:ext cx="1908000" cy="1484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476360" y="5445000"/>
            <a:ext cx="1429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47640" y="544500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000"/>
                            </p:stCondLst>
                            <p:childTnLst>
                              <p:par>
                                <p:cTn id="35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9:48:52Z</dcterms:created>
  <dc:creator>Profile</dc:creator>
  <dc:description/>
  <dc:language>en-US</dc:language>
  <cp:lastModifiedBy>ripkensa</cp:lastModifiedBy>
  <dcterms:modified xsi:type="dcterms:W3CDTF">2009-10-18T18:07:54Z</dcterms:modified>
  <cp:revision>11</cp:revision>
  <dc:subject/>
  <dc:title>Slide 1</dc:title>
</cp:coreProperties>
</file>